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3542"/>
        <c:axId val="43028172"/>
      </c:barChart>
      <c:catAx>
        <c:axId val="95663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8172"/>
        <c:crosses val="autoZero"/>
        <c:auto val="1"/>
        <c:lblAlgn val="ctr"/>
        <c:lblOffset val="100"/>
        <c:noMultiLvlLbl val="0"/>
      </c:catAx>
      <c:valAx>
        <c:axId val="43028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3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BC0-3EE3-4C67-A1D6-6C9A9A3B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C61-C080-477B-B433-442AEC19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963-97FA-4039-B1B7-E16893FA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C7F-73B7-4D12-9E78-79DE3619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906-5AB3-4B5C-A496-373058EC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773-8274-49D4-949B-ADA96D20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A1-999D-44CE-8FEA-E2DD1C42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84B-CDCB-4874-9899-FDE4DFF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FB6-B540-459A-A5D8-FCB2BE8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6DC-8334-4C11-878B-79828F2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051-E317-40DB-AECF-C8E8E84E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2BB-9EFE-4F06-BE72-25BE45C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F7E54-6DC7-434C-B56C-E4A1729420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